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EA5D-7787-494C-B35E-0EA7D50AF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065240" y="165240"/>
            <a:ext cx="4734000" cy="3551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159080"/>
            <a:ext cx="54864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mes are defining the „center of gravity“ of a phone‘s positioning, not it‘s exclusive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&gt; e.g., an Imaging phone might also support Music / MP 3, even though it‘s not on the „Music“ Theme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84AE7-D25B-4861-A62F-532FA8028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06920-8843-4F70-9C3C-2984BC717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92E1C-0C14-4194-A867-28B530218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0B54F-67B1-4FAC-86C0-CC5BFCDB8E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7037-2957-420E-8F2C-4814265C58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50637-1AAE-4BD6-8017-1818D82A5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0A88B-3C44-44C2-90DB-FBA42DB14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2B6F0-0625-40EA-8A72-39C23B911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731A5-EB24-4D7C-B0B4-044927114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7F0E-3482-4B4D-9951-F11583EFC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9CBA8-2AF0-46A9-BA61-9DDBB28C3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014D-ACC3-474B-9F29-DA5BD58EA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524040" y="63849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FE3D4F-00DF-42D3-B5F2-1E9BB61E17A6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, V 1.00_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McK Slide Elements"/>
          <p:cNvGrpSpPr/>
          <p:nvPr/>
        </p:nvGrpSpPr>
        <p:grpSpPr>
          <a:xfrm>
            <a:off x="125280" y="1149480"/>
            <a:ext cx="7684920" cy="5236560"/>
            <a:chOff x="125280" y="1149480"/>
            <a:chExt cx="7684920" cy="5236560"/>
          </a:xfrm>
        </p:grpSpPr>
        <p:sp>
          <p:nvSpPr>
            <p:cNvPr id="6" name="McK Measure" hidden="1"/>
            <p:cNvSpPr/>
            <p:nvPr/>
          </p:nvSpPr>
          <p:spPr>
            <a:xfrm>
              <a:off x="125280" y="1149480"/>
              <a:ext cx="768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McK Footnote" hidden="1"/>
            <p:cNvSpPr/>
            <p:nvPr/>
          </p:nvSpPr>
          <p:spPr>
            <a:xfrm>
              <a:off x="128160" y="6082920"/>
              <a:ext cx="72835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457200" indent="-457200">
                <a:tabLst>
                  <a:tab algn="l" pos="0"/>
                  <a:tab algn="r" pos="36828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*</a:t>
              </a: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Footno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spcBef>
                  <a:spcPts val="224"/>
                </a:spcBef>
                <a:tabLst>
                  <a:tab algn="l" pos="0"/>
                  <a:tab algn="r" pos="36828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Source:</a:t>
              </a: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808080"/>
                  </a:solidFill>
                  <a:latin typeface="Arial"/>
                </a:rPr>
                <a:t>Sour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5000" y="189000"/>
            <a:ext cx="5877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a0e66"/>
                </a:solidFill>
                <a:latin typeface="Minion"/>
              </a:rPr>
              <a:t>R&amp;D, MEP 7 adaptation to newly </a:t>
            </a:r>
            <a:br>
              <a:rPr sz="2500"/>
            </a:br>
            <a:r>
              <a:rPr b="1" lang="en-US" sz="2500" spc="-1" strike="noStrike">
                <a:solidFill>
                  <a:srgbClr val="3a0e66"/>
                </a:solidFill>
                <a:latin typeface="Minion"/>
              </a:rPr>
              <a:t>introduced product/project classes I-IV</a:t>
            </a:r>
            <a:endParaRPr b="0" lang="en-US" sz="25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36880" y="2325600"/>
            <a:ext cx="546264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87480">
              <a:lnSpc>
                <a:spcPct val="95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Common R&amp;D HR resource collection and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87480">
              <a:lnSpc>
                <a:spcPct val="95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Aligned cost structure and calculation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87480">
              <a:lnSpc>
                <a:spcPct val="95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Development milestone mapp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87480">
              <a:lnSpc>
                <a:spcPct val="95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Unified organization presen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87480">
              <a:lnSpc>
                <a:spcPct val="95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Aligned reporting conce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2400" y="1052640"/>
            <a:ext cx="8842320" cy="745920"/>
          </a:xfrm>
          <a:prstGeom prst="rect">
            <a:avLst/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1000080"/>
            <a:ext cx="0" cy="804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46840" y="993600"/>
            <a:ext cx="0" cy="806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8560" y="1143000"/>
            <a:ext cx="1512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Minion"/>
              </a:rPr>
              <a:t>Lea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</a:rPr>
              <a:t>U. Schmit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46920" y="1125360"/>
            <a:ext cx="474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inion"/>
              </a:rPr>
              <a:t>Statu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inion"/>
              </a:rPr>
              <a:t>Kick o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8080" y="1122480"/>
            <a:ext cx="241200" cy="647640"/>
          </a:xfrm>
          <a:prstGeom prst="rect">
            <a:avLst/>
          </a:prstGeom>
          <a:solidFill>
            <a:srgbClr val="cccccc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7040" y="1157400"/>
            <a:ext cx="142920" cy="163440"/>
          </a:xfrm>
          <a:prstGeom prst="ellipse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22040" y="1506240"/>
            <a:ext cx="96480" cy="333360"/>
            <a:chOff x="122040" y="1506240"/>
            <a:chExt cx="96480" cy="333360"/>
          </a:xfrm>
        </p:grpSpPr>
        <p:sp>
          <p:nvSpPr>
            <p:cNvPr id="63" name=""/>
            <p:cNvSpPr/>
            <p:nvPr/>
          </p:nvSpPr>
          <p:spPr>
            <a:xfrm flipH="1" flipV="1">
              <a:off x="139680" y="1506240"/>
              <a:ext cx="78840" cy="68760"/>
            </a:xfrm>
            <a:prstGeom prst="line">
              <a:avLst/>
            </a:prstGeom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122040" y="1609560"/>
              <a:ext cx="93240" cy="29160"/>
            </a:xfrm>
            <a:prstGeom prst="line">
              <a:avLst/>
            </a:prstGeom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139680" y="1770840"/>
              <a:ext cx="78840" cy="68760"/>
            </a:xfrm>
            <a:prstGeom prst="line">
              <a:avLst/>
            </a:prstGeom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122040" y="1704960"/>
              <a:ext cx="93240" cy="29520"/>
            </a:xfrm>
            <a:prstGeom prst="line">
              <a:avLst/>
            </a:prstGeom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62240" y="1506240"/>
            <a:ext cx="96480" cy="333360"/>
            <a:chOff x="462240" y="1506240"/>
            <a:chExt cx="96480" cy="333360"/>
          </a:xfrm>
        </p:grpSpPr>
        <p:sp>
          <p:nvSpPr>
            <p:cNvPr id="68" name=""/>
            <p:cNvSpPr/>
            <p:nvPr/>
          </p:nvSpPr>
          <p:spPr>
            <a:xfrm flipV="1">
              <a:off x="462240" y="1506240"/>
              <a:ext cx="78840" cy="68760"/>
            </a:xfrm>
            <a:prstGeom prst="line">
              <a:avLst/>
            </a:prstGeom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65480" y="1609560"/>
              <a:ext cx="93240" cy="29160"/>
            </a:xfrm>
            <a:prstGeom prst="line">
              <a:avLst/>
            </a:prstGeom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2240" y="1770840"/>
              <a:ext cx="78840" cy="68760"/>
            </a:xfrm>
            <a:prstGeom prst="line">
              <a:avLst/>
            </a:prstGeom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5480" y="1704960"/>
              <a:ext cx="93240" cy="29520"/>
            </a:xfrm>
            <a:prstGeom prst="line">
              <a:avLst/>
            </a:prstGeom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22400" y="5084640"/>
            <a:ext cx="3697200" cy="1202040"/>
          </a:xfrm>
          <a:custGeom>
            <a:avLst/>
            <a:gdLst>
              <a:gd name="textAreaLeft" fmla="*/ 0 w 3697200"/>
              <a:gd name="textAreaRight" fmla="*/ 3697560 w 3697200"/>
              <a:gd name="textAreaTop" fmla="*/ 0 h 1202040"/>
              <a:gd name="textAreaBottom" fmla="*/ 1202040 h 120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2400" y="5084640"/>
            <a:ext cx="2971800" cy="268560"/>
          </a:xfrm>
          <a:prstGeom prst="rect">
            <a:avLst/>
          </a:prstGeom>
          <a:solidFill>
            <a:srgbClr val="3a0e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720" rIns="0" tIns="367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8920" y="5148360"/>
            <a:ext cx="90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chievem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2400" y="1832040"/>
            <a:ext cx="3709800" cy="1380960"/>
          </a:xfrm>
          <a:custGeom>
            <a:avLst/>
            <a:gdLst>
              <a:gd name="textAreaLeft" fmla="*/ 0 w 3709800"/>
              <a:gd name="textAreaRight" fmla="*/ 3710160 w 370980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2400" y="1833480"/>
            <a:ext cx="2966760" cy="268200"/>
          </a:xfrm>
          <a:prstGeom prst="rect">
            <a:avLst/>
          </a:prstGeom>
          <a:solidFill>
            <a:srgbClr val="3a0e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720" rIns="0" tIns="367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7800" y="1892160"/>
            <a:ext cx="68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bjectiv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840" y="2131920"/>
            <a:ext cx="3768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Pragmatic adaptation of MEP 7 R&amp;D parts to project classes I-I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Provide leaner MEP for leaner project-clas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Eliminate obsolete check-item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Combine and/or drop milestones for ‘simple projects’ (if applicable!)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Adapt standard durations to project clas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89440" y="3102120"/>
            <a:ext cx="5073480" cy="1166760"/>
          </a:xfrm>
          <a:custGeom>
            <a:avLst/>
            <a:gdLst>
              <a:gd name="textAreaLeft" fmla="*/ 0 w 5073480"/>
              <a:gd name="textAreaRight" fmla="*/ 5073840 w 5073480"/>
              <a:gd name="textAreaTop" fmla="*/ 0 h 1166760"/>
              <a:gd name="textAreaBottom" fmla="*/ 1167120 h 116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94120" y="3103560"/>
            <a:ext cx="3148200" cy="266760"/>
          </a:xfrm>
          <a:prstGeom prst="rect">
            <a:avLst/>
          </a:prstGeom>
          <a:solidFill>
            <a:srgbClr val="3a0e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720" rIns="0" tIns="367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79440" y="3166920"/>
            <a:ext cx="251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ritical issues / Open topics to be solv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9440" y="1832040"/>
            <a:ext cx="5073480" cy="1243080"/>
          </a:xfrm>
          <a:custGeom>
            <a:avLst/>
            <a:gdLst>
              <a:gd name="textAreaLeft" fmla="*/ 0 w 5073480"/>
              <a:gd name="textAreaRight" fmla="*/ 5073840 w 5073480"/>
              <a:gd name="textAreaTop" fmla="*/ 0 h 1243080"/>
              <a:gd name="textAreaBottom" fmla="*/ 1243440 h 12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94120" y="1832040"/>
            <a:ext cx="3148200" cy="269640"/>
          </a:xfrm>
          <a:prstGeom prst="rect">
            <a:avLst/>
          </a:prstGeom>
          <a:solidFill>
            <a:srgbClr val="3a0e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720" rIns="0" tIns="367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1440" y="1895400"/>
            <a:ext cx="58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Key KPIs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67480" y="5779800"/>
            <a:ext cx="251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ritical issues / Open topics to be solv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89440" y="4284720"/>
            <a:ext cx="5073480" cy="1989000"/>
          </a:xfrm>
          <a:custGeom>
            <a:avLst/>
            <a:gdLst>
              <a:gd name="textAreaLeft" fmla="*/ 0 w 5073480"/>
              <a:gd name="textAreaRight" fmla="*/ 5073840 w 5073480"/>
              <a:gd name="textAreaTop" fmla="*/ 0 h 1989000"/>
              <a:gd name="textAreaBottom" fmla="*/ 1989360 h 198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94120" y="4284720"/>
            <a:ext cx="3148200" cy="291960"/>
          </a:xfrm>
          <a:prstGeom prst="rect">
            <a:avLst/>
          </a:prstGeom>
          <a:solidFill>
            <a:srgbClr val="3a0e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720" rIns="0" tIns="367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4356000"/>
            <a:ext cx="68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ext step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6040" y="4632480"/>
            <a:ext cx="12780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516720" y="4632480"/>
            <a:ext cx="1541160" cy="730800"/>
            <a:chOff x="6516720" y="4632480"/>
            <a:chExt cx="1541160" cy="730800"/>
          </a:xfrm>
        </p:grpSpPr>
        <p:sp>
          <p:nvSpPr>
            <p:cNvPr id="91" name=""/>
            <p:cNvSpPr/>
            <p:nvPr/>
          </p:nvSpPr>
          <p:spPr>
            <a:xfrm>
              <a:off x="6516720" y="4835880"/>
              <a:ext cx="85968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79280" indent="87480">
                <a:lnSpc>
                  <a:spcPct val="95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 indent="87480">
                <a:lnSpc>
                  <a:spcPct val="95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 indent="87480">
                <a:lnSpc>
                  <a:spcPct val="95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	</a:t>
              </a:r>
              <a:r>
                <a:rPr b="1" lang="en-US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6720" y="4632480"/>
              <a:ext cx="154116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Responsib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7961760" y="4632480"/>
            <a:ext cx="95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14200" y="1546200"/>
            <a:ext cx="216000" cy="217080"/>
            <a:chOff x="214200" y="1546200"/>
            <a:chExt cx="216000" cy="217080"/>
          </a:xfrm>
        </p:grpSpPr>
        <p:sp>
          <p:nvSpPr>
            <p:cNvPr id="95" name=""/>
            <p:cNvSpPr/>
            <p:nvPr/>
          </p:nvSpPr>
          <p:spPr>
            <a:xfrm>
              <a:off x="214200" y="1546200"/>
              <a:ext cx="216000" cy="217080"/>
            </a:xfrm>
            <a:prstGeom prst="ellipse">
              <a:avLst/>
            </a:prstGeom>
            <a:solidFill>
              <a:srgbClr val="00a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800" bIns="4680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36960" y="1563120"/>
              <a:ext cx="39960" cy="35640"/>
              <a:chOff x="336960" y="1563120"/>
              <a:chExt cx="39960" cy="35640"/>
            </a:xfrm>
          </p:grpSpPr>
          <p:sp>
            <p:nvSpPr>
              <p:cNvPr id="97" name=""/>
              <p:cNvSpPr/>
              <p:nvPr/>
            </p:nvSpPr>
            <p:spPr>
              <a:xfrm>
                <a:off x="336960" y="1563120"/>
                <a:ext cx="25200" cy="25200"/>
              </a:xfrm>
              <a:prstGeom prst="ellipse">
                <a:avLst/>
              </a:prstGeom>
              <a:solidFill>
                <a:srgbClr val="80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240" rIns="93240" tIns="-28800" bIns="-2880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57840" y="1580040"/>
                <a:ext cx="19080" cy="18720"/>
              </a:xfrm>
              <a:prstGeom prst="ellipse">
                <a:avLst/>
              </a:prstGeom>
              <a:solidFill>
                <a:srgbClr val="80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240" rIns="93240" tIns="-33120" bIns="-3312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"/>
          <p:cNvSpPr/>
          <p:nvPr/>
        </p:nvSpPr>
        <p:spPr>
          <a:xfrm>
            <a:off x="257040" y="1363680"/>
            <a:ext cx="142920" cy="163440"/>
          </a:xfrm>
          <a:prstGeom prst="ellipse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567480" y="136440"/>
            <a:ext cx="2375640" cy="853560"/>
            <a:chOff x="6567480" y="136440"/>
            <a:chExt cx="2375640" cy="853560"/>
          </a:xfrm>
        </p:grpSpPr>
        <p:sp>
          <p:nvSpPr>
            <p:cNvPr id="101" name=""/>
            <p:cNvSpPr/>
            <p:nvPr/>
          </p:nvSpPr>
          <p:spPr>
            <a:xfrm>
              <a:off x="6567480" y="390600"/>
              <a:ext cx="147240" cy="14688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67480" y="594000"/>
              <a:ext cx="147240" cy="147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67480" y="809640"/>
              <a:ext cx="147240" cy="146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67480" y="136440"/>
              <a:ext cx="47448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tatu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63600" y="390600"/>
              <a:ext cx="200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eadlines and results on trac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74760" y="594000"/>
              <a:ext cx="186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eadlines and results at ris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36600" y="822240"/>
              <a:ext cx="2306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eadlines and results highly at ris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81880" y="319320"/>
              <a:ext cx="2247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813120" y="4797360"/>
            <a:ext cx="49784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Get ‘GO’ from R&amp;D board. Adapt team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U. Schmitz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cw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Inform team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U. Schmitz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cw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Agreement with I/F partners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U. Schmitz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cw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First WS with Team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U. Schmitz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cw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25720" y="2131920"/>
            <a:ext cx="42814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New MEP (R&amp;D parts) available E/March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Existing MEP checkpoints aligned to project classes I-I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Milestones combined and/or dropped for ‘simple projects’ (not yet decided, must be evaluated in the coarse of the projec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Standard phase-durations for project classes defin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1143000"/>
            <a:ext cx="46083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Minion"/>
              </a:rPr>
              <a:t>Team: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</a:rPr>
              <a:t> J. Bauregger (HW), T. Hagemann (SW), O. Schrage (MD), C. Friedl (ST), A. Betting (TPM), H.P. Hoeckenreiner (Plannin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1503360"/>
            <a:ext cx="46083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Minion"/>
              </a:rPr>
              <a:t>Interface: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</a:rPr>
              <a:t> Th. Masselink (Over all MEP), U. Mielkau (CTM), A. Eising (QM), t.b.d.(SCM), t.b.d (RD VA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43640" y="1125360"/>
            <a:ext cx="122400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Minion"/>
              </a:rPr>
              <a:t>Sponsor/Steering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</a:rPr>
              <a:t>S. Bocionek, W. Klebsch, J. Schmit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3408480"/>
            <a:ext cx="4978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Team availability must be ensur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Agreement and availability of I/F partn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280" y="3284640"/>
            <a:ext cx="3697560" cy="1800000"/>
          </a:xfrm>
          <a:custGeom>
            <a:avLst/>
            <a:gdLst>
              <a:gd name="textAreaLeft" fmla="*/ 0 w 3697560"/>
              <a:gd name="textAreaRight" fmla="*/ 3697920 w 369756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280" y="3303720"/>
            <a:ext cx="2971800" cy="268200"/>
          </a:xfrm>
          <a:prstGeom prst="rect">
            <a:avLst/>
          </a:prstGeom>
          <a:solidFill>
            <a:srgbClr val="3a0e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720" rIns="0" tIns="367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160" y="3355920"/>
            <a:ext cx="1399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cedure and time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6920" y="3643200"/>
            <a:ext cx="3529080" cy="16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Based on project class definition results of PD energize project. Re-use results/material developed t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Team regularly meets in WS (apprx. 4x), no add. status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1st WS: Analyze solution in depth and agreement. 2nd+3rd: intermediate results. 4th prepare final ver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Present intermediate results to sponsor/steering (1-2x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Kick-Off: 10.Jan., Interm.res. :3.Feb + 3.Mar, Final version 31.Ma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Rough effort estimation: ~40h/month for each team member. ~100h/month for project lea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0200800">
            <a:off x="5292720" y="260280"/>
            <a:ext cx="720720" cy="287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.b.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0" y="5524560"/>
            <a:ext cx="367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8200" indent="-8892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Project proposal (= base for R&amp;D board ‘GO’) avail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Appendix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Project Organisa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7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63640" y="836640"/>
          <a:ext cx="552456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836640"/>
                    <a:ext cx="552456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Areas of work / open issu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98440" y="84420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1.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General: 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Define if each check point gets a ‘relevant for product class X’ indication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Define if milestones need to be merged for certain class X products (e.g. S15/S2 for class1) If so: Enhance each of the tables in the entire document.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Check,/decide if milestones can be dropped for certain classes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2.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Adapt duration of phases to mapping to project classes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Enhance duration list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Combine/drop milestones(?)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3.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Adapt checklist responsible (Due to org change)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Each checklist at each milestone should show definition responsible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Optional: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3.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Eliminate mix department/project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Provide clear matrix org statement and picture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4.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BenQ mobile Org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Add missing functions in “4. Overview of declarations” (e.g. Ma: no entry, but approx 35 checkpoints). 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What does CTM/TPM cover? (Process discussion!!!!!)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Grouping of functions (e.g. R&amp;D)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Unbind from changing org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Use generic terms (as partially already in)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Provide one-pager as mapping to current org struct 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Adapt to new department structure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Unique wording throughout the doc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Provide generic org struct which shows all MEP-players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5.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Metrics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Overview how many checkpoints for which MS/function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6.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Check use of platform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•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100" spc="-1" strike="noStrike">
                <a:solidFill>
                  <a:srgbClr val="3a0e66"/>
                </a:solidFill>
                <a:latin typeface="Minion"/>
              </a:rPr>
              <a:t>Assumption for MEP 7.x platform process goes alive</a:t>
            </a:r>
            <a:endParaRPr b="0" lang="en-US" sz="11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Definition of PD project classes</a:t>
            </a:r>
            <a:br>
              <a:rPr sz="16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The project cost and the project duration are depending on the development effort. This is described by the PD classes</a:t>
            </a:r>
            <a:endParaRPr b="1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"/>
          <p:cNvSpPr/>
          <p:nvPr/>
        </p:nvSpPr>
        <p:spPr>
          <a:xfrm>
            <a:off x="6375240" y="6318360"/>
            <a:ext cx="2576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63648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llected data from PL-P &amp; PL-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17600" y="907920"/>
          <a:ext cx="8240760" cy="5234040"/>
        </p:xfrm>
        <a:graphic>
          <a:graphicData uri="http://schemas.openxmlformats.org/drawingml/2006/table">
            <a:tbl>
              <a:tblPr/>
              <a:tblGrid>
                <a:gridCol w="1352520"/>
                <a:gridCol w="1722240"/>
                <a:gridCol w="1722600"/>
                <a:gridCol w="1720800"/>
                <a:gridCol w="1722600"/>
              </a:tblGrid>
              <a:tr h="352440"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D project 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</a:tr>
              <a:tr h="100656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ew ID only, same PCB, same S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ew housing, new PCB, slight SW modifications, reuse of available HW and SW compon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ew form factor (concept) SW and/or HW evo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ead product incl. platform and component cost 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Everything 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st r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direct cos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’8 (Cond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5’0 (Phillip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4’0 (Fin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7’7 (Obsidi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5’8 (Ony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0’(Kestre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&gt;30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Swan, Koala…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ypical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’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6’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7’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40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ypical project duration (M0 till D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5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driven by mechanic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i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dor: 21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3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driven by mechanic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45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driven by S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75 wee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driven by S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erequisites for time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esign must be available and aligned with Mechanics, other features identical to technical predecess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esign must be available and aligned with Mechanics, all features must be defined in terms of “as already available for…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W feature list must be finalized and agreed. Architecture to be derived from predecessor projects/plat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W feature list must be finalized and agreed (top level), Architecture must be available from TPS, key HW features/components are  defin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i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ow-m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6T09:26:35Z</dcterms:created>
  <dc:creator>Uwe Schmitz</dc:creator>
  <dc:description/>
  <dc:language>en-US</dc:language>
  <cp:lastModifiedBy>SchmitzU</cp:lastModifiedBy>
  <dcterms:modified xsi:type="dcterms:W3CDTF">2006-01-09T15:03:21Z</dcterms:modified>
  <cp:revision>25</cp:revision>
  <dc:subject/>
  <dc:title>R&amp;D MEP 7 adaptation to newly introduced project classes</dc:title>
</cp:coreProperties>
</file>